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D92B5-A5AC-403B-AE2C-3218DEA3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9C90D-CCC7-4B0E-91B0-DE88928D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DBE7-2F2A-48AC-B736-D1B5C716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684D-8BA3-4334-BE56-43422B1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B9B3-4903-4ADC-A856-8985591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D49E-9AD0-45AE-97A6-8F21D61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8347-D76A-4592-B4A7-EAF6365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AAF1-0E92-48AB-9965-CBE21127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792F6-82B1-46CB-9488-89A1CBEB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43C8C-9840-425B-8586-67DE5689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32351-FBE7-4F00-BE0D-82D191E0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C1E9-B3F8-4957-A120-E8CD61B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B756F-DE7C-4DAB-A0FB-964AEBFF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69B3-2A95-4238-85E9-8D0D573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9644-7984-4557-AA3C-13599668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D3A1-E25A-403E-8539-28E1AD2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26C96-B304-4844-BD2A-DAA63AF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4B991-B8D8-4239-B8D9-46315AC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2823-E409-45C4-82B6-F92A290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27C71-4316-465A-817B-5C9D283A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DF9B-0DF6-493D-B062-5DD6FBC6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2E31D-9E7F-429B-8EB6-632C3CE5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5BC63-C26B-4833-92F7-B5654AC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93A59-46E0-40A3-B37F-1F8F9CF7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45B7E-2088-4282-8CBF-10E4C2B8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5122D-9151-4C09-A62E-E258DD5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5FF0-192B-4B2F-B48C-ABD19C5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7D749-6C39-4648-8510-64C35B1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BA02C-135D-4502-B311-D7E6676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B58D1-E969-4219-9A23-66E609C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619F-73FB-4BBF-A390-8A16DACA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80E6-CA92-4B16-B150-84A28C08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C07F-1FB9-41A3-BCCF-C638A088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D05-DB9D-4DDC-9811-9860264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425-EBFC-485A-8315-D220A37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734-DC21-4AFE-A063-56D77C60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298-1A0F-4A16-8370-1A00AADD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C6D-EF5C-4E4B-A645-5E5302A0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ED3-52D9-4ACD-8916-82FD2DF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C6F-C490-4923-B11F-1518729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117-75B1-4DD8-AFAD-81CC28B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ABC-5C20-4766-90AE-63749FB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200-A8D6-43D4-999C-0062DC0B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F75-9031-4F2D-94E4-9FB7D511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D14-5065-4CD8-A656-B75D396F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E6E6-C3F3-4435-B281-DF945C64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5DBF-1E7B-429B-BFC1-6062739B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391-95EA-40CD-BBD8-3F48635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1C3-4B65-4AEC-A382-FC64BABF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BD4-AE9A-45A5-A4D8-932ECEA3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E1AD-65B1-4009-A47A-6357180C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407-5268-40EB-B052-EAA9209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97FF-44B4-41E9-A90E-09E953C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7F8B-BA07-4B94-8E9A-D3B1535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23C-6742-4AA6-93C8-0E947E78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2A3-3E2A-4CF2-80C9-97ED6C25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104-5960-49EE-9436-BBC03DC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5B3D-B720-4284-8009-6CC62445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B1EA7-FAD4-4455-A404-A8F2154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1258-C64A-4C74-9436-88BA067B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EEAB-3013-4FB9-8D3C-DF1AA7D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2EFA-63E0-400C-89CA-45326AE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E6AE-1FAB-4FB8-B288-BE46ECDB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8336-F2A7-42D5-98B8-EF0DC05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574C-DFAA-4D19-83E6-5CC6814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A655-D27A-4ED3-A472-A398E2B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F3AB-ECCF-49AB-8292-DA2A17D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A121-8585-4831-AD26-2BD8EDF4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3241-C721-47EB-83BF-E208D68D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A719-0318-4F07-9DEB-37EE7314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EEEE-FA59-4DC8-875B-06BBB68B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892F8-A014-44C3-9A9A-56EE7C12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BBE6-0F50-447A-A938-E9D95062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0D6E-97D6-4C1C-A6D2-F042BB1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A38A-98BE-475A-8445-AA84868D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CE024-10FA-4E7F-BD8B-DFE75137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1351-CE51-4FCC-AA82-68E16BE3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1C79-81BD-4088-9121-4F81963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A7AA-554A-443B-89B4-72FB5CC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A767-95D7-4D51-90B3-0AC70ABB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CAC6-36FC-47FD-85C0-B849C694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D0D94-FD30-4E5A-A358-22868C12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CA6C2-20CF-45C3-ADD1-544A9F8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1839B-5863-4D96-B15E-1692749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D902-20B5-440C-A222-81768BF7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C953-6816-49DA-9E00-01E31E6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9C4E-3DCA-47FE-814A-19E3D066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B6BCF-5A7C-42EE-85BA-CAD4F25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6FBBD-8F28-4F77-AC3B-0A15E2D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2786-5A96-489F-BB37-210E90F3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CD8E3-193F-47EB-8247-76E2E95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42C3E-6609-4B55-938E-725CFDC8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FFCC-3C41-4313-94F3-62202AC9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CD6C-F5FF-4BE7-B66D-9904C3CB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40699-8B8A-4122-9451-DE3E86A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B56C-4C7E-4E54-8B88-B78D453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A7CC2-7C66-42C5-B0CD-BE0C1D95B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EF764-A4AA-471F-A5B0-827F8FB3A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BF817-CD55-4837-BBE4-B65B09D319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53F23-BBC7-4BEC-AF8E-F831245902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6FC4C-DCDC-4B54-BB12-03C882439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02105-9334-42A1-A3FB-9B0D7B7C52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F03C7-E576-4406-9760-6EA6AF70E2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AD5D1-C6AE-46FB-9D77-42B008B23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lab 300"/>
              <a:ea typeface="Museo Slab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13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87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lab 300"/>
              <a:ea typeface="Museo Slab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42:33Z</dcterms:created>
  <dc:creator>Mike DeSocio</dc:creator>
  <dc:description/>
  <dc:language>en-US</dc:language>
  <cp:lastModifiedBy>Mike DeSocio</cp:lastModifiedBy>
  <dcterms:modified xsi:type="dcterms:W3CDTF">2016-01-05T16:53:11Z</dcterms:modified>
  <cp:revision>1</cp:revision>
  <dc:subject/>
  <dc:title>PowerPoint Presentation</dc:title>
</cp:coreProperties>
</file>