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2857-99DA-4EB7-A6EC-AA19A76A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F2BD-122F-4B87-8540-44D6C2CF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1C39-9AD7-4A7B-A398-19BE3F75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532E-91AF-4C22-9443-F6E67810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FE0C-2007-4F92-B79A-CB5E7CED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0A2A-A2BE-4D78-BDF8-10737139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870-DD86-4011-9ED8-FFE4A298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547C-83D4-432F-AE8B-2DCE3269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1B77-DDE5-4D06-8C5C-7A3DF829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778C-97BF-4FC8-BE30-2BD4E8C5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948-7142-4863-BB14-F4E0AA81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8307-6B5E-4C2D-8D42-6E195AEF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629E2-5A66-4140-A659-8347A6BA48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Museo Sans 30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84564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Museo Slab 700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371600" y="216360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5T16:55:05Z</dcterms:created>
  <dc:creator>Mike DeSocio</dc:creator>
  <dc:description/>
  <dc:language>en-US</dc:language>
  <cp:lastModifiedBy>Mike DeSocio</cp:lastModifiedBy>
  <dcterms:modified xsi:type="dcterms:W3CDTF">2016-01-05T17:01:19Z</dcterms:modified>
  <cp:revision>1</cp:revision>
  <dc:subject/>
  <dc:title>PowerPoint Presentation</dc:title>
</cp:coreProperties>
</file>